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wmf" ContentType="image/x-wmf"/>
  <Override PartName="/ppt/media/image6.png" ContentType="image/png"/>
  <Override PartName="/ppt/media/image10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media/image1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765FD-A92D-425C-AACE-C9C7FACF9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ED3AD-2EAA-45A6-945B-D597F0FDF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3E179-4C8A-4471-97D2-6EB9CA777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88E4A-09E4-4B2E-A11D-277B81FF7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4E393-C369-4AB8-B44F-002EDD413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D3F83-F910-47AF-91A6-84000193D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2CF9D-B008-4ACD-A7D6-6293E2A09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F7AD4-78B6-4C9C-800A-CD441F7C3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71941-1401-443E-A4BD-39F8D4DDD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C8CA4-596D-4857-A852-F3825B416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162C3-DBC8-4668-8C06-C6810EB39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6C169-DBF1-4DE5-877D-5241EAA50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47895-AD94-41B3-8F33-AFA435EA2D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png"/><Relationship Id="rId5" Type="http://schemas.openxmlformats.org/officeDocument/2006/relationships/hyperlink" Target="http://www.freeplaymusic.com/" TargetMode="External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eb.mit.edu/invent/iow/epperson.html" TargetMode="External"/><Relationship Id="rId2" Type="http://schemas.openxmlformats.org/officeDocument/2006/relationships/image" Target="../media/image6.png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133720" y="914400"/>
            <a:ext cx="4267080" cy="33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6600"/>
                  </a:solidFill>
                  <a:miter/>
                </a:ln>
                <a:solidFill>
                  <a:srgbClr val="cc0099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POPSICLE</a:t>
            </a:r>
            <a:endParaRPr b="0" lang="en-US" sz="1800" spc="1" strike="noStrike">
              <a:ln w="12600">
                <a:solidFill>
                  <a:srgbClr val="ff6600"/>
                </a:solidFill>
                <a:miter/>
              </a:ln>
              <a:solidFill>
                <a:srgbClr val="cc0099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5486400"/>
            <a:ext cx="2057400" cy="12027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ce Stahn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/21/12 pd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er # 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80880" y="2971800"/>
            <a:ext cx="1387440" cy="18129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7162920" y="457200"/>
            <a:ext cx="1466640" cy="18921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457200" y="54864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p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315200" y="243828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5486400" y="4343400"/>
            <a:ext cx="985680" cy="18194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5257800" y="655308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p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228600" y="6019920"/>
            <a:ext cx="5105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52280" y="5791320"/>
            <a:ext cx="48769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eplay Music, Everyone in harmony Feb.27 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www.freeplaymusic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6"/>
          <a:stretch/>
        </p:blipFill>
        <p:spPr>
          <a:xfrm>
            <a:off x="380880" y="533520"/>
            <a:ext cx="1371600" cy="135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100000">
              <a:srgbClr val="a2fe8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80880" y="5867280"/>
            <a:ext cx="79250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melson MIT Program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opsicl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b 23,2012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eb.mit.edu/invent/iow/epperson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Epperson"/>
          <p:cNvPicPr/>
          <p:nvPr/>
        </p:nvPicPr>
        <p:blipFill>
          <a:blip r:embed="rId2"/>
          <a:stretch/>
        </p:blipFill>
        <p:spPr>
          <a:xfrm>
            <a:off x="914400" y="762120"/>
            <a:ext cx="7696080" cy="23731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581280" y="3429000"/>
            <a:ext cx="472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k created this frozen treat when he was 11 years ol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5562720" y="3886200"/>
            <a:ext cx="1303200" cy="17701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6019920" y="5867280"/>
            <a:ext cx="190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p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838080" y="3581280"/>
            <a:ext cx="2041560" cy="13874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762120" y="517356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p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ff99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vention: Popsi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opsicle was invented in 1905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was made when Frank Epperson left a drink outside then froze over nig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became a very popular treat and still is to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are over thirty different flavo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opsicle was first called the Eppsic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1923 it became a official trea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17560" cy="20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50000">
              <a:srgbClr val="cc00cc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ventor: Frank Eppers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k Epperson accidently invented the popsicl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was just eleven when he created th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was born in the year of 1894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lived in San Francisc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lived to be 89 years ol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6629400" y="4267080"/>
            <a:ext cx="1716120" cy="20163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0" y="228600"/>
            <a:ext cx="129240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7T14:41:15Z</dcterms:created>
  <dc:creator>install</dc:creator>
  <dc:description/>
  <dc:language>en-US</dc:language>
  <cp:lastModifiedBy>install</cp:lastModifiedBy>
  <dcterms:modified xsi:type="dcterms:W3CDTF">2012-03-09T15:26:53Z</dcterms:modified>
  <cp:revision>7</cp:revision>
  <dc:subject/>
  <dc:title>Slide 1</dc:title>
</cp:coreProperties>
</file>